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BEF-B781-47AE-A215-7A8C5F10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A07-9D87-4228-B668-1BF5F2F6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FDC-BB33-4F38-8717-3D02825C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8BD-7600-4A86-9394-6D9174B2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1C0-F44B-413E-BDC0-6749A166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A72-9966-478E-97CC-B0F9D22B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FD8-B5E0-4B37-AEF5-58721E88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A1B-1C81-4EF1-AA9A-90DEE374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6F7-E8B4-4B56-8B54-A243048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73E-C6D2-4C9C-ADE5-DE26239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503-0D5C-4EAC-8990-DD19DCD3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313-5FF6-46D6-8F32-D1BA6881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635B-B013-4E0D-AC71-BFDA67E54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eam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amb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goals for the new govern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overnment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more perfect un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or common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general wel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domestic tranquility (pe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lib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reamble_large"/>
          <p:cNvPicPr/>
          <p:nvPr/>
        </p:nvPicPr>
        <p:blipFill>
          <a:blip r:embed="rId1"/>
          <a:stretch/>
        </p:blipFill>
        <p:spPr>
          <a:xfrm>
            <a:off x="4613400" y="1219320"/>
            <a:ext cx="4292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de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legated Pow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only to the nation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served Pow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only to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urrent Pow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ared by national and state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federalis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upremacy Cl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stitution is the supreme law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law or government action that conflicts with the Constitution is cancell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government cannot go against the nation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mage018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95880" y="1066680"/>
            <a:ext cx="4605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ecessary and Proper” Cl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171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the clause made the Air Force pos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ress shall have the power to make all laws which shall be necessary and proper to carry out its duties” [Article I, section 8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allows Congress to take on powers not specifically listed in the Co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it, Congress could not take action on modern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known as the “elastic claus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tealth-bomber-18"/>
          <p:cNvPicPr/>
          <p:nvPr/>
        </p:nvPicPr>
        <p:blipFill>
          <a:blip r:embed="rId1"/>
          <a:stretch/>
        </p:blipFill>
        <p:spPr>
          <a:xfrm>
            <a:off x="609480" y="1447920"/>
            <a:ext cx="3094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paration of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4852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s divided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bran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gisl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ecu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s and bal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eps any one branch from getting too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image001"/>
          <p:cNvPicPr/>
          <p:nvPr/>
        </p:nvPicPr>
        <p:blipFill>
          <a:blip r:embed="rId1"/>
          <a:stretch/>
        </p:blipFill>
        <p:spPr>
          <a:xfrm>
            <a:off x="152280" y="1447920"/>
            <a:ext cx="610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iving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greatest accomplishments of the Constitution is to realize it ha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lows itself to be changed as time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mend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change or addition to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mend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proposed by a 2/3 vote of both houses of Cong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vote of 2/3 of state legisl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ust be approved by ¾ of state legislatures to take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approved by ¾ of state ratifying conventions, although this has never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amendments have been ad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ABdye4_03_13"/>
          <p:cNvPicPr/>
          <p:nvPr/>
        </p:nvPicPr>
        <p:blipFill>
          <a:blip r:embed="rId1"/>
          <a:stretch/>
        </p:blipFill>
        <p:spPr>
          <a:xfrm>
            <a:off x="380880" y="1295280"/>
            <a:ext cx="4114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change the Constit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Constitution worked well in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changes, it would not work for us today,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ry was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n-Americans were not guaranteed the right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ate was chosen by State legisl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 and Vice President chosen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have resolved these issues to moder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wait"/>
          <p:cNvPicPr/>
          <p:nvPr/>
        </p:nvPicPr>
        <p:blipFill>
          <a:blip r:embed="rId1"/>
          <a:stretch/>
        </p:blipFill>
        <p:spPr>
          <a:xfrm>
            <a:off x="4724280" y="1828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amendments aren’t a good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ndment process is difficult, on purpos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posed amendments never mak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posed amendments reflect the beliefs of the times.  The process attempts to keep the Constitution tim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usa"/>
          <p:cNvPicPr/>
          <p:nvPr/>
        </p:nvPicPr>
        <p:blipFill>
          <a:blip r:embed="rId1"/>
          <a:stretch/>
        </p:blipFill>
        <p:spPr>
          <a:xfrm>
            <a:off x="0" y="1724040"/>
            <a:ext cx="46483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76: The Senate shall be aboli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ilibuster2-senate"/>
          <p:cNvPicPr/>
          <p:nvPr/>
        </p:nvPicPr>
        <p:blipFill>
          <a:blip r:embed="rId1"/>
          <a:stretch/>
        </p:blipFill>
        <p:spPr>
          <a:xfrm>
            <a:off x="1066680" y="1295280"/>
            <a:ext cx="7391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the Peop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62360" y="12193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founded by its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serves the people, not the other way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ebquote%20jefferson"/>
          <p:cNvPicPr/>
          <p:nvPr/>
        </p:nvPicPr>
        <p:blipFill>
          <a:blip r:embed="rId1"/>
          <a:stretch/>
        </p:blipFill>
        <p:spPr>
          <a:xfrm>
            <a:off x="304920" y="1219320"/>
            <a:ext cx="4743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All acts of war should be put to a national vote. Anyone voting yes has to register as a volunteer for service in the United States Arm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kbbd2"/>
          <p:cNvPicPr/>
          <p:nvPr/>
        </p:nvPicPr>
        <p:blipFill>
          <a:blip r:embed="rId1"/>
          <a:stretch/>
        </p:blipFill>
        <p:spPr>
          <a:xfrm>
            <a:off x="1905120" y="2717640"/>
            <a:ext cx="57150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n attempt to limit the personal wealth to $1 mill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millionaire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ab19"/>
          <p:cNvPicPr/>
          <p:nvPr/>
        </p:nvPicPr>
        <p:blipFill>
          <a:blip r:embed="rId2"/>
          <a:stretch/>
        </p:blipFill>
        <p:spPr>
          <a:xfrm>
            <a:off x="4800600" y="2408400"/>
            <a:ext cx="419112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: The Congress shall have the power to prohibit the physical desecration of the flag of the United States."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flag_burning"/>
          <p:cNvPicPr/>
          <p:nvPr/>
        </p:nvPicPr>
        <p:blipFill>
          <a:blip r:embed="rId1"/>
          <a:stretch/>
        </p:blipFill>
        <p:spPr>
          <a:xfrm>
            <a:off x="1447920" y="213372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ore perfect un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tronger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to avoid the weakness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s would give up some power to the new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ide for the common defen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6920" y="15238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end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1787 when this was written, the U.S. was threatened by British forces in Canada and Spanish in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the federal government authority to maintain the mil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ircraft-carrier-15"/>
          <p:cNvPicPr/>
          <p:nvPr/>
        </p:nvPicPr>
        <p:blipFill>
          <a:blip r:embed="rId1"/>
          <a:stretch/>
        </p:blipFill>
        <p:spPr>
          <a:xfrm>
            <a:off x="609480" y="1219320"/>
            <a:ext cx="3822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ablish 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deral government would be the protector of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have the final say in lega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deral court system would be created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judge_schwedler"/>
          <p:cNvPicPr/>
          <p:nvPr/>
        </p:nvPicPr>
        <p:blipFill>
          <a:blip r:embed="rId1"/>
          <a:stretch/>
        </p:blipFill>
        <p:spPr>
          <a:xfrm>
            <a:off x="4572000" y="1568520"/>
            <a:ext cx="4114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mote the General Welfa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0" y="15235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government would have the responsibility to do what it can to improve the lives of its citize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government has the power to take action on behalf of its citize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does the government accomplish thi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american%20flag"/>
          <p:cNvPicPr/>
          <p:nvPr/>
        </p:nvPicPr>
        <p:blipFill>
          <a:blip r:embed="rId1"/>
          <a:stretch/>
        </p:blipFill>
        <p:spPr>
          <a:xfrm>
            <a:off x="457200" y="1371600"/>
            <a:ext cx="3956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sure domestic tranquili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has a duty to keep the peace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control crimin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the authority to help society run smoo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sure the Blessings of Libert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the basic freedoms that all citizens enj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s on our rights and freedoms to all the generations that follow (i.e. YOU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tatue-of-liberty"/>
          <p:cNvPicPr/>
          <p:nvPr/>
        </p:nvPicPr>
        <p:blipFill>
          <a:blip r:embed="rId1"/>
          <a:stretch/>
        </p:blipFill>
        <p:spPr>
          <a:xfrm>
            <a:off x="593640" y="1219320"/>
            <a:ext cx="3684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nciples behind the Con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pular Sovereign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ople have the right to rule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mited Gover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government cannot do anything it 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dera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wer is shared with the national and state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webquote%20henry"/>
          <p:cNvPicPr/>
          <p:nvPr/>
        </p:nvPicPr>
        <p:blipFill>
          <a:blip r:embed="rId1"/>
          <a:stretch/>
        </p:blipFill>
        <p:spPr>
          <a:xfrm>
            <a:off x="4724280" y="1600200"/>
            <a:ext cx="4202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6:11:03Z</dcterms:created>
  <dc:creator>Phil McGinnis</dc:creator>
  <dc:description/>
  <dc:language>en-US</dc:language>
  <cp:lastModifiedBy>Phillip McGinnis</cp:lastModifiedBy>
  <dcterms:modified xsi:type="dcterms:W3CDTF">2010-10-19T15:02:37Z</dcterms:modified>
  <cp:revision>11</cp:revision>
  <dc:subject/>
  <dc:title>Constitutional Principles</dc:title>
</cp:coreProperties>
</file>